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69C1-DCDD-4583-A146-32ABA853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91F-1516-48C7-8896-7F425F62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8B99-BE51-40C9-9F87-9011EBC9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CB8-BEE9-465A-8FC8-382DF25E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A23-D59F-4753-8551-D75D92AF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6869-2CEF-42CC-9651-0FCB5333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485C-D39D-432D-8F6E-D81ABE03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DC51-FFA5-4FC4-AFAF-3D3DC598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D5E3-52C2-4D25-8817-5ACD707A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9336-E5B3-4D26-8E90-4B8DF291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C84F-F902-40DE-AF2E-340CC60A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72C5-2D03-4B7F-A26F-1D3CE2B4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E6A0-19FD-48F9-BCDD-C59FA81A7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Calcu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differ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533520" y="3962520"/>
          <a:ext cx="74851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962520"/>
                    <a:ext cx="7485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your own words, define a local maximum and a local minim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ynomial Functions and Their Graph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jective:  The learner willdescribe the important features of the graph of a polynomial func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ocab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cal maxi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cal mini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reasing interv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reasing interv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d behavi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the directions ask for max and min you will be using the y-value to state the max or min and the x-value for where the max or min oc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the directions ask for increasing and decreasing you will be using the x-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ph each function and approximate any local maxima and minima to the nearest ten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Object 2"/>
          <p:cNvGraphicFramePr/>
          <p:nvPr/>
        </p:nvGraphicFramePr>
        <p:xfrm>
          <a:off x="2209680" y="1752480"/>
          <a:ext cx="393084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752480"/>
                    <a:ext cx="39308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Object 2"/>
          <p:cNvGraphicFramePr/>
          <p:nvPr/>
        </p:nvGraphicFramePr>
        <p:xfrm>
          <a:off x="3124080" y="685800"/>
          <a:ext cx="290844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685800"/>
                    <a:ext cx="2908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ph each function.  Find any local maxima or minima to the nearest tenth.  Find the intervals over which the function is increasing and decreas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Object 2"/>
          <p:cNvGraphicFramePr/>
          <p:nvPr/>
        </p:nvGraphicFramePr>
        <p:xfrm>
          <a:off x="2971800" y="2666880"/>
          <a:ext cx="248904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666880"/>
                    <a:ext cx="2489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Object 2"/>
          <p:cNvGraphicFramePr/>
          <p:nvPr/>
        </p:nvGraphicFramePr>
        <p:xfrm>
          <a:off x="2971800" y="609480"/>
          <a:ext cx="266688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609480"/>
                    <a:ext cx="26668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end behavior of each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Object 2"/>
          <p:cNvGraphicFramePr/>
          <p:nvPr/>
        </p:nvGraphicFramePr>
        <p:xfrm>
          <a:off x="2590920" y="1371600"/>
          <a:ext cx="356220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35622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3"/>
          <p:cNvGraphicFramePr/>
          <p:nvPr/>
        </p:nvGraphicFramePr>
        <p:xfrm>
          <a:off x="2819520" y="3581280"/>
          <a:ext cx="3454200" cy="6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581280"/>
                    <a:ext cx="345420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sheet 7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13:18:58Z</dcterms:created>
  <dc:creator>setupuser</dc:creator>
  <dc:description/>
  <dc:language>en-US</dc:language>
  <cp:lastModifiedBy>setupuser</cp:lastModifiedBy>
  <dcterms:modified xsi:type="dcterms:W3CDTF">2014-02-24T13:22:34Z</dcterms:modified>
  <cp:revision>15</cp:revision>
  <dc:subject/>
  <dc:title>Warm-up</dc:title>
</cp:coreProperties>
</file>